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63DC-1B73-4348-AAAF-FF989B45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5611-755C-4613-ACE8-38746590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0E6F-F1E0-4B89-9A53-7DF3958F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8598-8B5D-4521-950E-2B4CABA5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3AE2-38D8-435A-8E2F-AF63692B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196E-E536-4CFF-94A0-850171F2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FCA2-5526-47EB-BA93-26320FAA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372-B72D-4ED3-83A2-39DBCD1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5A6E-EEEB-472A-BAC0-CBDB8080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1836-2AA5-449C-A232-BBD7E5A9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CBDA-CBCE-4352-9E49-93521A5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66BF-1582-430D-90AC-882405DE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F2B4-56D4-4991-9459-FA4E50A3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02C3-7B9A-4D11-B36C-35D447E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0182-267D-4F34-93E3-0D5C32C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75B8-7840-48C0-86BC-7EFCBCD2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03B-8BA0-471E-91ED-64657CDA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33EF-2E42-4DD0-82D5-FA7EA74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1F83-A496-4B9B-9269-53F20BE9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D348-17F1-404A-A51B-99CFAB89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A3B0-3833-4265-9770-4D885514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AD2C-8164-406A-B5A4-BC8F5FFB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3FC0-79BD-448B-B110-B3711E8B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9D62-3F45-49C0-8C42-B0F920C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16EE-B169-4056-9DFC-E78C748A01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23A6-6785-4F83-8629-0DB6A37C5F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18560" cy="30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25a"/>
                </a:solidFill>
                <a:latin typeface="Arial"/>
                <a:ea typeface="Arial"/>
              </a:rPr>
              <a:t>ЕКАТЕРИНА ШЕМЯКИНА, Екатеринбург, </a:t>
            </a:r>
            <a:br>
              <a:rPr sz="2400"/>
            </a:br>
            <a:r>
              <a:rPr b="1" lang="ru-RU" sz="2400" spc="-1" strike="noStrike">
                <a:solidFill>
                  <a:srgbClr val="ebf25a"/>
                </a:solidFill>
                <a:latin typeface="Arial"/>
                <a:ea typeface="Arial"/>
              </a:rPr>
              <a:t>МОУ лицей №180 «Полифорум»</a:t>
            </a:r>
            <a:br>
              <a:rPr sz="2400"/>
            </a:br>
            <a:r>
              <a:rPr b="1" lang="ru-RU" sz="2400" spc="-1" strike="noStrike">
                <a:solidFill>
                  <a:srgbClr val="ebf25a"/>
                </a:solidFill>
                <a:latin typeface="Arial"/>
                <a:ea typeface="Arial"/>
              </a:rPr>
              <a:t>9-Д класс</a:t>
            </a:r>
            <a:br>
              <a:rPr sz="2400"/>
            </a:br>
            <a:r>
              <a:rPr b="1" lang="en-US" sz="2400" spc="-1" strike="noStrike">
                <a:solidFill>
                  <a:srgbClr val="ebf25a"/>
                </a:solidFill>
                <a:latin typeface="Arial"/>
                <a:ea typeface="Arial"/>
              </a:rPr>
              <a:t>sheel@rambler.ru</a:t>
            </a:r>
            <a:br>
              <a:rPr sz="4000"/>
            </a:br>
            <a:br>
              <a:rPr sz="4000"/>
            </a:br>
            <a:r>
              <a:rPr b="1" lang="ru-RU" sz="6000" spc="-1" strike="noStrike">
                <a:solidFill>
                  <a:srgbClr val="ebf25a"/>
                </a:solidFill>
                <a:latin typeface="Arial"/>
                <a:ea typeface="Arial"/>
              </a:rPr>
              <a:t>АРТЕКОВСКАЯ</a:t>
            </a:r>
            <a:br>
              <a:rPr sz="6000"/>
            </a:br>
            <a:r>
              <a:rPr b="1" lang="ru-RU" sz="6000" spc="-1" strike="noStrike">
                <a:solidFill>
                  <a:srgbClr val="ebf25a"/>
                </a:solidFill>
                <a:latin typeface="Arial"/>
                <a:ea typeface="Arial"/>
              </a:rPr>
              <a:t> КЛЯТВ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4142880"/>
            <a:ext cx="6400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а и  сегодня   среди нас -  наша землячка, екатеринбурж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УДНИК МАРИЯ ИВАН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  <a:ea typeface="Arial"/>
              </a:rPr>
              <a:t>( Смена страниц - по щелчку мышью на странице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539640" y="403560"/>
            <a:ext cx="799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 первым поручением Маша-Оля справилась успешно, принеся важные сведения, и была принята в партизанский отряд. Кроме Маши, в отряде было еще несколько таких же детей.  Там, где появление взрослого человека было невозможным,  вид  играющих  или просто бегающих детей  не вызывал подозр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Маша изучала пулемет «Максим», на всю жизнь вошедший в ее память и не один  раз выручавший ее,   устройство гран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432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95280" y="474840"/>
            <a:ext cx="832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Но главным оружием у детей были не пулемет и граната, а  безобидная скакалка или плитка для игры в «классики», корзинка для грибов. Играя, бойкие детские  глаза замечали все -  сколько немцев, какое у них оружие, где и как оно расположено. В детской памяти четко откладывались «Пантеры»,  «Тигры»,   и  затем вся информация докладывалась офицерскому составу. Маша уже знала и своих радисток,  которым она передавала все важные сведения,  которые только могли заметить ее глаз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38527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68360" y="258120"/>
            <a:ext cx="4248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Еще до войны,  играя в неё, дети кричали «За Родину, за Сталина!».  Маша тоже  играла  с ребятами  в войну и  разведку,  и  теперь до конца ещё не понимала, насколько опасными для нее  стали  взрослые игры, к которым она относилась с недетской  серьезностью и ответственностью.  Маша-девочка  связывалась    с девушками-радистками, которые  были совсем немного старше ее. Она восхищалась их смелостью, знаниями и умениями, и ей не хотелось «отставать» от них. Она с азартом принималась за каждое новое поручение, даже не давая себе отчета, насколько оно может быть опасн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708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28760" y="385200"/>
            <a:ext cx="78883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огда сведения были настолько важны, что  эти взрослые Машины игры были отмечены медаля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«Медаль партизана </a:t>
            </a:r>
            <a:r>
              <a:rPr b="1" i="1" lang="en-US" sz="2000" spc="-1" strike="noStrike">
                <a:solidFill>
                  <a:srgbClr val="ff7530"/>
                </a:solidFill>
                <a:latin typeface="Arial"/>
                <a:ea typeface="Arial"/>
              </a:rPr>
              <a:t>III</a:t>
            </a: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 Степени»,  «Орденом Славы </a:t>
            </a:r>
            <a:r>
              <a:rPr b="1" i="1" lang="en-US" sz="2000" spc="-1" strike="noStrike">
                <a:solidFill>
                  <a:srgbClr val="ff7530"/>
                </a:solidFill>
                <a:latin typeface="Arial"/>
                <a:ea typeface="Arial"/>
              </a:rPr>
              <a:t>III</a:t>
            </a: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 Степени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ведения добывались под свистом пуль над головой, которая – в 13 лет! – стала седе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жды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гда Маша перешла линию фронта, ей удалось вместе с сообщениями передать письмо своей маме о том, что она жива (1942г).    По полевой почте родные Маши наконец-то узнали о ее судьбе. Взволнованные,  мама и ее сестра пошли в Уральский военный округ с просьбой, чтобы Машу вернули домой. Мама пыталась попасть, как она считала, к самому главному начальнику. Её отправили к генералу. Выслушав рассказ матери, в ответ на её просьбу о возвращении дочки домой,  генерал сказа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 “Вы что, мамаша, против Советской Власти идете? Таких детей мы ищем, такие дети нам нужны для того, чтобы они могли пройти там, где взрослый человек не пройдет.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шина мама не помнила, как вышла от генерала, она боялась наказания за свой визит,  и молча стала ждать, когда же закончится война, не теряя надежды на возвращение до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395280" y="1123560"/>
            <a:ext cx="435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ыполняя  одно из заданий, Маша была ранена в живот и попала в госпиталь.  После выздоровления её направили учиться в разведшколу.  Для того чтобы её туда приняли, о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рибавила к своим 13 годам ещё четыре года.   Учиться Маше было легко  - военную науку она уже прошла на практике.  Машу-Ольгу  направили в Днепропетровский  штаб армии и, дальше -   на  1 Украинский фронт, снова в разведку. Она получила звание «Гвардии старши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19640" y="981000"/>
            <a:ext cx="35481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24000" y="331560"/>
            <a:ext cx="8501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Маша не брала “языков”, ее целью было узнать информацию и сообщить какие части движутся на передний край, какое идет пополнение, какая оборона. Главная  задача - это выйти на нейтральную полосу,  где ее ждали  связные,   и передать им  сведения.  Для этого надо было найти лазейку и пройти незамеченной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Чтобы пройти мимо немцев,  уже сами дети  придумывали -  как это сделать. Иногда  они очень близко, рискуя жизнью,   подходили немцам и вертелись около них.  Немцы  не подозревали  в детях  разведчиков,   и    -  случалось даже и  такое -    угощали их  сухариком или саха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Машу воспитывала  армия.   В отря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ее любили как дочь.  Кормили  вместе со взрослыми, и она зарабатывала себе солдатский суп и каш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71640" y="414972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539640" y="372600"/>
            <a:ext cx="748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ядовые солдаты, среди  которых была Маша-Ольга, не знали, что девочка ходит на задания, считали, что она  -  “дочь полка” -  находится на попечении взрослых. О её настоящей роли знала только полковая разведка.  Сняв военную форму, в которой она ходила в отряде, надев юбку, подвязав платочек, как ходят местные жители, она шла на зад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ю, которую она приносила,  Маша отдавала командиру полка, и затем её передавали дальше -  генералу. И тогда Маша осознавала свою важность и значим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учалась, командир полка вызывал девочку  и на передовую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у-ка, посмотри в серую  трубу – буссоль, гляди,  где там можно пройти, чтобы передать сведен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Маша высматривала в линии фронта “дыры”, через которые она могла проскочи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гда же  в отряде  оставалось немного бойцов, Маше доверяли пулемет, и она стреляла во вра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75200" y="5431320"/>
            <a:ext cx="30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530"/>
                </a:solidFill>
                <a:latin typeface="Arial"/>
                <a:ea typeface="Arial"/>
              </a:rPr>
              <a:t>МАША-ОЛЬГА</a:t>
            </a:r>
            <a:r>
              <a:rPr b="0" lang="en-US" sz="2000" spc="-1" strike="noStrike">
                <a:solidFill>
                  <a:srgbClr val="ff7530"/>
                </a:solidFill>
                <a:latin typeface="Tahoma"/>
              </a:rPr>
              <a:t>      1943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Рудник М_И"/>
          <p:cNvPicPr/>
          <p:nvPr/>
        </p:nvPicPr>
        <p:blipFill>
          <a:blip r:embed="rId1"/>
          <a:stretch/>
        </p:blipFill>
        <p:spPr>
          <a:xfrm>
            <a:off x="2556000" y="260280"/>
            <a:ext cx="39322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611280" y="411480"/>
            <a:ext cx="803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Её фронтовой путь продолжился  в 6-ом  гвардейском кавалерийском корпусе имени Соколова, где она была и разведчицей, и наводчиком-пулеметчицей. Враг должен быть уничтожен -  она понимала это, беря в свои руки станковый пулемет. В этом корпусе у Маши-Ольги была гнедая лошадь Майка, которую она очень любила. Маша хорошо ездила на ней,  научилась лихо делать «ножницы», переворачиваться на хо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48960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611280" y="547920"/>
            <a:ext cx="8031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Тело пулемета – 32кг, станок пулемета – 36кг , щит – 9 кг, лента, заряженная 250 патронами   – эти цифры Маша запомнила на  всю свою жизн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И все же дети использовались не для того, чтобы стрелять впереди всех.  Главное – ходить в разведку. И Маша очень хорошо понимала, что она защищает свою Родину, свою страну. В 14 лет   она приняла Военную Присягу.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Дети войны жили одним  днем – только тем, что нужно узнать и передать, не строя планы на будущ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4896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ARTEK_4"/>
          <p:cNvPicPr/>
          <p:nvPr/>
        </p:nvPicPr>
        <p:blipFill>
          <a:blip r:embed="rId1"/>
          <a:stretch/>
        </p:blipFill>
        <p:spPr>
          <a:xfrm>
            <a:off x="5089680" y="476280"/>
            <a:ext cx="3844800" cy="5832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324000" y="690480"/>
            <a:ext cx="4433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Ар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это слово вмещало собой целую  жизнь – море, шум прибоя, кипарисы, пронзающие небо. Это совсем  другой мир – яркий, как южное солнце, и красочный, как алые галстуки на груди пионеров, приезжающих сюда со всех концов страны, чтобы побывать  в волшебной сказочной стране под названием АРТ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то из детей не мечтал о поездке в этот лагерь! Артековский значок на груди был равноценен медали за учебу, труд и  крепкую пионерскую дружб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312120"/>
            <a:ext cx="8137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Как правило,  она всегда справлялась с порученным заданием, как бы трудно оно ни было. Однажды  случилось истор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Была  занята оборона, наступил период “затишья”.  Однако все знали, что именно в это  время  и поступало пополнение воинского состава с обеих сторон. Замеченные сведения о продвижении противника, их численности Маша должна была передать “своим”.   Когда она шла на встречу, немцы начали обстрел -  как раз там, где  она должна была встретиться со связ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гонь был таким сильным, что не было возможности проскочить сквозь него живым.  Маша изо всех  детских сил старалась не попасть под него, и  начала пробираться  между кустами, пригибаясь и прячась, – где как придется. Она отходила от того места, где должна была встретиться, но всё же продвигалась вперед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вязных  было трое, они ждали  её на нейтральной полосе. Под шквальным огнем они заняли лежачее положение, и не могли двинуться навстречу ей – это была верная смерть.  Они уже начали думать,  что  девушка погиб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826920" y="403920"/>
            <a:ext cx="727236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И всё же Маше удалось найти место, через которое она смогла проползти. Свои солдаты,  увидев ползущую девочку, пропустили е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“Давай скорее сюда!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Как  оказалась,  она попала в другой полк. Но сведения, необходимые передать, она сообщила.  Радисты передали связным, что девочка жива, дошла до цели, и они могут возвращ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стреча со связными не состоялась, но информация все же была доставлены по назнач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9640" y="287496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26920" y="217800"/>
            <a:ext cx="756144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Дальше её фронтовой путь продолжился  в 83 морской десантной бригаде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жды, во время боя, сама того не подозревая, Маша оказалась ближе всех к знамени полка. Нужно было взять его с собой и вынести. Маша-Оля, по–детски, не задумываясь, вынесла  его с соб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Ей даже не пришло в голову, что она спасла честь своего полка. А на груди её оказалась ещё одна боевая награда   -   медаль  «За отвагу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 ноябре 1944г.  Маша, будучи разведчицей, была тяжело ранена в  спину и получила контузию головного мозга.  Пять месяцев пролежала в госпитале в  Тбилиси, где ей дали группу инвалидности,   и  оттуда  вернулась домой, в Свердловск,  в 1945 году, чтобы продолжить мирную жизнь  и снова сесть  учиться  за школьную пар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ойна   навсегда оставила следы на её теле и  в  душе. Но Маша училась,  старалась заниматься спортом, чтобы двигаться вперед.  Движение – это жизн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39640" y="287496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0920" y="259200"/>
            <a:ext cx="850104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 жизни Марии Ивановны  были случаи неправдоподобные -  на первый взгляд.   Но так уж распорядилась Судьб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жды, лежа в госпитале ветеранов Великой Отечественной войны,  она встретила одного бывшего моряка из  83 морской десантной бригады, где служила и она.  Оказалось, что однажды он и его товарищи спасли жизнь тогдашней Маше-Оле. Дело было та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4732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39640" y="287496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11280" y="179640"/>
            <a:ext cx="79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родвигаясь со своим полком в Крыму,  они должны были высадиться  на катере-охотнике. Выпрыгивая с катера, Маша упала в воду,  быстро намокла, начала тонуть в холодной воде,   и тут ее подхватил какой-то молодой человек.  Молодые люди познакомились уже в военном госпитале, куда они попали после этого.  Он оказался добровольцем, ушедшим на фронт из Кие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211640" y="2708280"/>
            <a:ext cx="4762440" cy="3762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539640" y="2419200"/>
            <a:ext cx="34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осле войны некоторое время они переписывались, но  потом их  мирные дороги разошлись.  Встретились случайно, спустя 50 лет в госпитале на Урале, не узнав друг друга.  За разговором, вспоминая о былых временах, в их памяти всплыл одновременно этот эпизод из их военных биографий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9640" y="287496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00040" y="384480"/>
            <a:ext cx="759924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а же судьба сделала Марии Ивановне, видимо, за потерянное детство,  еще один подар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  2001 году в  госпитале, где  ежегодно она подлечивается, к ней  подошел мужчина, с которым они уже как-то раз встречались вместе, но не разговаривали.  Он оказался из Ревды.  На этот раз, поговорив о  делах, о политике, о том, что оба остались одинокими,  вспомнили свои молодые  г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рия Ивановна, рассказала ему о том, что она воевала на 1 Украинском фронте.  Оказалось, что и  Федор Иванович Баранов – так звали мужчину – воевал там же.   Мария Ивановна рассказывала, как однажды, она, разведчица, как она сама себя назвала – пацанка,  встречалась на нейтральной полосе со связными, но эта встреча не произошла.   Федор Иванович тоже рассказал 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Знаешь, мы однажды  также встречали  одну пацанку,    Олю Павлову, на нейтрал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Вы что, с 31 полка?  -  удивленно спросила Мария Ивано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1116000" y="431280"/>
            <a:ext cx="6626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А как ты узнал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Так вы же меня встречал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Так ты же Мари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Во время войны я  была Павловой Ольгой Дмитриев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Так, оказывается, мы встречал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еб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! И чуть не погибли!  Оказывается это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Это была действительно потрясающая встреч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 фронтовыми воспоминаниями Мария Ивановна и Федор Иванович хорошо познакомились, и  в дальнейшем решили  быть вмес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59"/>
                </a:solidFill>
                <a:latin typeface="Arial"/>
                <a:ea typeface="Arial"/>
              </a:rPr>
              <a:t>Несостоявшаяся встреча в 1942 году  состоялась спустя 60 лет.  Нейтральная полоса  соединила   жизни   двух людей, так много  переживших.  В церкви, где они венчались,  Бог благословил их необыкновенный  Сою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4360" y="660240"/>
            <a:ext cx="750096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Как бы ни показалось это странным, но люди, прошедшие войну, вспоминают о прошлом с удовольствием. Так и Мария Ивановна и Федор Иванович очень час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разговаривали о фронтовых днях.  И не могли наговориться о том, что накопилось за их жизненный путь. Такого душевного понимания и бережного отношения друг ко другу у них никогда в жизни не было.   Эти люди хорошо знали цену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Три прожитых совместных года до смерти в 2004 году Федора  Ивановича, как они сами  считали, были самыми лучшими в их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187280" y="288288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68360" y="258840"/>
            <a:ext cx="82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осле войны прошло много лет, но и сегодня Мария Ивановна думает, что если бы История могла повториться, она вновь прошла бы свой пионерский путь  так, как это случилось много лет тому назад. И если представить себе, что это могло произойти сейчас, Мария Ивановна не задумываясь, снова бы пошла в разведку,  на том уже мнении, что никто не смог  быть заподозрить бабушку  с тросточкой в роли разведчицы. Стар и млад  способны на  то, на что не всегда годятся взрослые лю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на  и сегодня бодра, жизнелюбива, и с  оптимизмом смотрит в завтрашний день. Ее голос до сих пор звучит так же решительно, как и в молодые г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49910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14240" y="557280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УДНИК МАРИЯ ИВА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5" descr="Рудник М_И_1"/>
          <p:cNvPicPr/>
          <p:nvPr/>
        </p:nvPicPr>
        <p:blipFill>
          <a:blip r:embed="rId1"/>
          <a:stretch/>
        </p:blipFill>
        <p:spPr>
          <a:xfrm>
            <a:off x="214200" y="214200"/>
            <a:ext cx="4286520" cy="531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apture_11"/>
          <p:cNvPicPr/>
          <p:nvPr/>
        </p:nvPicPr>
        <p:blipFill>
          <a:blip r:embed="rId2"/>
          <a:stretch/>
        </p:blipFill>
        <p:spPr>
          <a:xfrm>
            <a:off x="5286240" y="571680"/>
            <a:ext cx="3306960" cy="30207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4643280" y="42166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втор рассказа вместе с Рудник Марией Ивановной в 2005 го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35120" y="5228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военный АРТЕ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ARTEK_2"/>
          <p:cNvPicPr/>
          <p:nvPr/>
        </p:nvPicPr>
        <p:blipFill>
          <a:blip r:embed="rId1"/>
          <a:stretch/>
        </p:blipFill>
        <p:spPr>
          <a:xfrm>
            <a:off x="250920" y="549360"/>
            <a:ext cx="4608360" cy="3873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076720" y="547560"/>
            <a:ext cx="3713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ша Стенина,  двенадцатилетняя свердловская  школьница, закончила учебный год  на «отлично»,  и ей, активистке и  заводиле,  выпало счастье -  путевка в этот чудесный лагерь.  Душа ее пела и ликовала от  одного только слова – «АРТЕК». Впереди было лето, жаркий южный июнь, задорные пионерские горны. Маша  в мечтах представляла себе закат на море и темное небо, в котором загадочно летят  искры от вечерних кост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187280" y="288288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258920" y="573480"/>
            <a:ext cx="705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59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5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С  Марией  Ивановной я познакомилась несколько лет назад на празднике ветеранов -   «Огонёк Победы». Меня очень заинтересовала её история, и я захотела поговорить с ней, увидеться и побольше узнать о её жизни. Я восхищалась ею, но все-таки не понимала,  как девочка -  моя сверстница, решилась пойти на войну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Я побывала у Марии Ивановны в гост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Мы сидели, пили чай с печеньем, и она рассказывала о своей жизни. Удивило её отношение к немцам. Когда она  стреляла на передовой,  то считала, что стреляет во врага. В спокойной  же обстановке  к немецким солдатам она относилась как к людям,  которых послала на войну их страна.  Несмотря на то, что в конце войны Мария  Ивановна стала инвалидом,  она не озлобилась на жизнь, и, скрывая  от всех свою инвалидность, училась и  работала.  Жизнелюбие – основная черта её характе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На память об этой встрече она подарила мне реликвию -  её фронтовую фотограф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85840" y="343800"/>
            <a:ext cx="828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сле окончания войны Марии Ивановне так и  не довелось побывать в «Артеке». Как сложилась судьба  других артековцев,  она  не зн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1970 году в «Артек» ездила моя мама, ей тогда было одиннадцать лет.  Она рассказала мне,  что в «Артеке» есть памятники Героям – Артековцам, защитникам артековской земли  и    Вечный Огонь . Я считаю, что этот памятник воздвигнут  и ей –  Рудник Марии Ивановне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5" descr="ARTEK_3"/>
          <p:cNvPicPr/>
          <p:nvPr/>
        </p:nvPicPr>
        <p:blipFill>
          <a:blip r:embed="rId1"/>
          <a:stretch/>
        </p:blipFill>
        <p:spPr>
          <a:xfrm>
            <a:off x="2340000" y="3213000"/>
            <a:ext cx="3552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84360" y="195480"/>
            <a:ext cx="74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Этот рассказ  с описанием сложившейся судьбы Марии Ивановны мы отправили  в Артек.  В настоящее время история жизни Марии Ивановны  занесена в Музей Истории Артека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187280" y="288288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ARTEK_7"/>
          <p:cNvPicPr/>
          <p:nvPr/>
        </p:nvPicPr>
        <p:blipFill>
          <a:blip r:embed="rId1"/>
          <a:stretch/>
        </p:blipFill>
        <p:spPr>
          <a:xfrm>
            <a:off x="1357200" y="1928880"/>
            <a:ext cx="68580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721520" y="508320"/>
            <a:ext cx="6006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свящаю женщинам – участница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ликой Отечественной 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Давно закончилась вой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Вздохнул спокойно мир освобожденн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Настала тихая свободная вес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Осталась русская земля – непобеждён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Наполнив радостью серд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С тех дней  Победа – вечно с нам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И украшают женщин орде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Tahoma"/>
              </a:rPr>
              <a:t>Раскрытыми весенними </a:t>
            </a: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цвет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Как много жизней отняла войн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За труд и честь – медали золот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И украшает женщин сед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Хотя они сегодня – молоды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Сияют на груди Отечества наград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И не под силу всех заслуг их перечест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И этим женщинам нам поклониться над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Да прогремит салют в их чес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ARTEK_8"/>
          <p:cNvPicPr/>
          <p:nvPr/>
        </p:nvPicPr>
        <p:blipFill>
          <a:blip r:embed="rId1"/>
          <a:stretch/>
        </p:blipFill>
        <p:spPr>
          <a:xfrm>
            <a:off x="214200" y="142920"/>
            <a:ext cx="4286520" cy="4097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ARTEK_5"/>
          <p:cNvPicPr/>
          <p:nvPr/>
        </p:nvPicPr>
        <p:blipFill>
          <a:blip r:embed="rId2"/>
          <a:stretch/>
        </p:blipFill>
        <p:spPr>
          <a:xfrm>
            <a:off x="4643280" y="2870280"/>
            <a:ext cx="43102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39640" y="47484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вот уже поезд постепенно приближал Машу  и ее таких же счастливых юных попутчиков к заветной цели. В поезде вожатый рассказывал много интересного про «Артек», и про клятву, которую даёт каждый приезжающий в этот замечательный лагерь. Клятва эта звучала так  - «Артековец сегодня – Артековец всегда 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2922840"/>
            <a:ext cx="46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 «Артек» ребята приехали чуть утомленные почти недельным путешествием на поезде  через всю страну, с блестящими от восторга глазами.  Был вечер 21 июня 1941 года.    Ребят впечатлило и море, и шум прибоя,  и незнакомая речь приехавших из Испании детей.    Распределение по отрядам намечалось на  утро 22 ию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932360" y="2781360"/>
            <a:ext cx="42116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979200"/>
            <a:ext cx="36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о  ночью  небо озарили не яркие  южные звезды, а совсем другие – зловещие сполохи, и ночную тишину разорвал страшный гул немецких самолетов. Сначала никто не понял  что случилось что-то страшное -  на артековскую землю полетели снаряды.  Самолеты снижались так низко, что едва не задевали крыльями верхушки кипари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077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55640" y="1274040"/>
            <a:ext cx="732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530"/>
                </a:solidFill>
                <a:latin typeface="Arial"/>
                <a:ea typeface="Arial"/>
              </a:rPr>
              <a:t>Так в жизнь Маши ворвалось это страшное слово – ВОЙН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530"/>
                </a:solidFill>
                <a:latin typeface="Arial"/>
                <a:ea typeface="Arial"/>
              </a:rPr>
              <a:t>Она еще сама не знала, что в  двенадцать лет закончилось   её  ДЕТ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71640" y="3716280"/>
            <a:ext cx="3313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11280" y="331920"/>
            <a:ext cx="79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ервыми из Артека эвакуировали морем испанских детей. Приехав с   войны, они вновь оказались на войне.  Корабли, увозившие  их обратно  к родным берегам,    не доплыли до места назначения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4 июня советских детей  тоже посадили на поезд в надежде, что они  вернуться  домой, к своим родител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Крымском полуострове были расположены советские  военные базы, о которых немцам было уже известно. Немецкие самолёты бомбили базы,  железнодорожные пути и мирные посе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7085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11280" y="10800"/>
            <a:ext cx="792144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бреющего полета  с вражеских самолетов началась  бомбежка  и артековского поезда.  Дети выбегали из остановившегося поезда и бежали, чтобы спастись -   кто ку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ша тоже бежала вместе с другими ребятами, но вдруг она поняла, что осталась совсем одна. Через несколько  дней, голодная, она добралась до деревни, уже занятой немцами.  Видимо, вид голодного ребенка, подстриженного  коротко, под мальчика,  вызвал  у них  жалость, и немцы Машу не тронул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ше повезло, что здесь  же, недалеко от деревни, находились и свои люди,  партизаны, которые приютили ее в отряде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11280" y="403200"/>
            <a:ext cx="799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ления на детей и взрослых уже не существовало. Увидев, что девочка очень смышленая,  взрослые решили использовать ее в качестве разведчицы и обучили ее  «секретам» -  как можно добыть информацию и не выдать себя. Чтобы не вызвать подозрения о появлении девочки в отряде,  командование отряда договорилось через связных с одним надежным человеком, жившим на уже оккупированной территории,  о том,  что  Маша будет жить в отряде под видом его племянницы,  о которой  его соседи были наслышаны.  Так Маша Стенина  стала Павловой Ольгой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3887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8:56:48Z</dcterms:created>
  <dc:creator>Шемякина</dc:creator>
  <dc:description/>
  <dc:language>en-US</dc:language>
  <cp:lastModifiedBy>Елена</cp:lastModifiedBy>
  <dcterms:modified xsi:type="dcterms:W3CDTF">2010-02-19T08:49:14Z</dcterms:modified>
  <cp:revision>70</cp:revision>
  <dc:subject/>
  <dc:title>Слайд 1</dc:title>
</cp:coreProperties>
</file>